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6.wmf" ContentType="image/x-wmf"/>
  <Override PartName="/ppt/media/image24.png" ContentType="image/png"/>
  <Override PartName="/ppt/media/image22.wmf" ContentType="image/x-wmf"/>
  <Override PartName="/ppt/media/image21.jpeg" ContentType="image/jpeg"/>
  <Override PartName="/ppt/media/image18.wmf" ContentType="image/x-wmf"/>
  <Override PartName="/ppt/media/image2.jpeg" ContentType="image/jpeg"/>
  <Override PartName="/ppt/media/image20.png" ContentType="image/png"/>
  <Override PartName="/ppt/media/image16.png" ContentType="image/png"/>
  <Override PartName="/ppt/media/image14.jpeg" ContentType="image/jpeg"/>
  <Override PartName="/ppt/media/image15.wmf" ContentType="image/x-wmf"/>
  <Override PartName="/ppt/media/image1.jpeg" ContentType="image/jpeg"/>
  <Override PartName="/ppt/media/image10.jpeg" ContentType="image/jpeg"/>
  <Override PartName="/ppt/media/image5.png" ContentType="image/png"/>
  <Override PartName="/ppt/media/image27.png" ContentType="image/png"/>
  <Override PartName="/ppt/media/image12.wmf" ContentType="image/x-wmf"/>
  <Override PartName="/ppt/media/image30.jpeg" ContentType="image/jpeg"/>
  <Override PartName="/ppt/media/image35.wmf" ContentType="image/x-wmf"/>
  <Override PartName="/ppt/media/image32.jpeg" ContentType="image/jpeg"/>
  <Override PartName="/ppt/media/image33.wmf" ContentType="image/x-wmf"/>
  <Override PartName="/ppt/media/image13.png" ContentType="image/png"/>
  <Override PartName="/ppt/media/image37.jpeg" ContentType="image/jpeg"/>
  <Override PartName="/ppt/media/image40.wmf" ContentType="image/x-wmf"/>
  <Override PartName="/ppt/media/image34.jpeg" ContentType="image/jpeg"/>
  <Override PartName="/ppt/media/image7.jpeg" ContentType="image/jpeg"/>
  <Override PartName="/ppt/media/image28.jpeg" ContentType="image/jpeg"/>
  <Override PartName="/ppt/media/image36.wmf" ContentType="image/x-wmf"/>
  <Override PartName="/ppt/media/image39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29.wmf" ContentType="image/x-wmf"/>
  <Override PartName="/ppt/media/image31.png" ContentType="image/png"/>
  <Override PartName="/ppt/media/image6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3B3C-40BA-4C51-8272-68035A4A5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3834-0955-4A03-B5A9-C03767DB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D666-C304-48C5-91BC-4D86D1879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9B52-C22C-4BCB-9713-14420EDD6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BCB9-AC98-4C43-AE2A-5F5FB9F4D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99AA-63C7-4066-991B-92AEE819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DA5D-D929-4475-B444-686FDA82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490C-21E1-4C78-A7AB-D6E452C0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C50F-C71E-4B1E-952A-9D8F413A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E713-2791-4BA1-A6E1-CD53ECFD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0A3C-EAAF-4A52-8A4B-BCB61E7A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90A8-2606-4513-A0D0-B4695461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85C5-4C76-4F81-92FD-D23DBA41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0FCD-6ECF-4358-819A-FAF34D61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70C5-1497-4263-8AAC-B7190798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25EF-7B57-4D9F-82DF-C3AE34F62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0408-4D1E-4B7C-BEA4-8CD690B69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D1C29-0EF5-4EA5-96D7-A27D74B13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A73FB-3998-4E87-B9B7-4A276D57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274A9-A32B-413E-957D-6F05D818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43B39-9ADB-45F5-A426-B9CCD6D9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C5F4F-7449-4777-B636-421FC930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B2E3-2F25-4266-BF24-9A78CBF3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3A720-7EA0-45C7-9758-6D8F6D5C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32DC3-7E91-43C0-8CBD-DCB307CB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81FC1-9216-4F02-B031-1E14FDEC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E394E-113C-4334-AF7B-2E58A3D2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C74A0-5A06-46F0-8483-8E898E23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2B573-8771-4DD4-9B28-CB7282DF9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55C0E-A050-41AF-85E6-B3F2A0D8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34993-3958-436A-A582-D1F41B57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9EEEF-5185-4935-A507-F2EB10A4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E51F1-D855-48D6-B755-E56AB319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7369-5AD9-4BA3-B610-B702B668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60FE6-42DC-4C9E-B751-68F8DED4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FE5E4-DA17-4E32-A460-9A03C735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AF2A2-B628-44C0-921F-D838340C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7D081-6E86-4CBD-AB9C-7D809DB4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3382C-0469-4C47-BFDC-3787D7E0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F49CA-CE57-49F9-91C4-A905E3C4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A2415-720A-4E57-86B1-CE33EAA6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84BA5-7226-4AE1-BC6F-4045415FE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89B98-70C2-4A71-8699-3E0649500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F0076-BDBE-4471-B46A-BFEF0681F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924A-483E-4035-897D-D1A8D7D8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CA6B2-1C18-454E-BD4D-329EC258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42311-202E-4DA1-A753-AF83B36C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034A4-C42E-4721-915B-A2ED0C89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0D4E3-713C-493B-B206-E9CCFB15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D6C35-99FA-4CD8-A950-E236C49E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7B517-B8A3-4819-905A-735D7FF2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5C27B-60CC-48C7-88AA-1DAC1FF0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F8722-2544-44A5-9C4D-FD905BA6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1516F-4E6D-4858-B2C9-18D20B11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A58B6-635C-4E2B-BD5C-DEC89C2EF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350D-8BEA-4BD2-8EDB-1A873CF9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76950-34DD-42AC-AF14-3E4F898FC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2A9AC-BDD0-47AC-9B07-1800811D5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12A8E-E38B-48E2-A89D-42B00A4A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67FE2-AC87-4C9D-9C61-D5A1C870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F7E4F-B933-46CF-837B-B9B40044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EBD15-DBBF-4A2D-90AC-0981E86F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E40D9-7445-42A4-86CD-D304BEEA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4A3FB-6CFE-4FEF-8B95-94377553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2FF29-6009-41E8-A8B4-01328852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12E15-AA15-4969-902F-4D6D4444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28F0-B4F7-4211-9B31-E5C5F626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58A56-45BD-48B0-82F4-11E284D4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8CC76-AA25-4078-B5EE-4D8416E34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17DC8-1DE4-4FB7-B8D6-751785EA3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35E26-5C66-46E8-AEF0-7ECB1F8E5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7F8BC-1BAD-4EB4-8C34-655E70E1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9F87C-EBBC-4A13-8473-4476A60B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BBF08-7D95-466A-B036-62FBF5DE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1ED69-972E-4475-9C18-008DCA86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4273D-2D9F-4024-9474-604563F8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3129C-F3C0-4B68-84F2-A91A0784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ADB9-0CC3-4ACD-ABC6-B5731BB3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F51F9-B5D7-461E-BE4D-1DAAA985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40465-FAE1-43B1-906A-A4935915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A67AA-715F-4C7B-B96F-AA2DF9DC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93E01-5D17-4727-99F3-397356560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21868-3520-477C-8E8B-1E7D2FE65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270C8-FD8E-44D2-9D0E-4920099D5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3D25D-056B-46BE-87D9-7C766298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A92D9-5182-4A90-9858-853DFD12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FDE04-275B-44F8-A3D8-BBBA691B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3BDF1-FEA4-493F-9C6C-50E0571B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B925-9913-443B-9DC9-1F42F795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EC633-EF84-4F1E-A43F-3E1EE2DF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87A38-E327-4026-8103-C883DE60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3F99F-9E8F-41A6-A9D2-B3E90F5D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30424-BB21-4E13-A53C-02022E8B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153CE-D84B-44D6-B932-D0DE2F18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D7DCB-C73A-4250-A423-C08623AB0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56124-6C19-483B-BA30-FF1C725EA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6D95-3789-4FD7-B5B8-9F55AC7B1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5A40-1BC5-4DA7-8705-FC823E8FDE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23E8-1289-4F72-A41E-919DA86779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8DD9-2306-47FD-961F-2F6962BA43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65CE-D1A0-4278-A9AE-2CAC11F9FF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87D2-602B-4EFC-94B7-C1510CC0A1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59AE-86C0-40B4-B439-B1C1DEAF1E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97F3-1F78-482B-8770-1C069975AB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55640" y="17427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Verdana"/>
              </a:rPr>
              <a:t>MERCADO PARA LA AGROINDUSTRIA PERUAN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2263680" y="3429000"/>
            <a:ext cx="460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Fernando Cillóni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www.informaccion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3708360" y="836640"/>
            <a:ext cx="1971720" cy="523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154080" y="957240"/>
          <a:ext cx="8961480" cy="520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080" y="957240"/>
                    <a:ext cx="8961480" cy="52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179280" y="6248520"/>
            <a:ext cx="4419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ercado Productores de Sta Ani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410920" y="-90720"/>
            <a:ext cx="6193080" cy="11430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ZUCAR: ABASTECIMIENTO EN EL MERCADO PRODUCTORES DE SANTA ANITA (TM)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68360" y="-18000"/>
            <a:ext cx="67327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LGODON: PRODUCC. NACIONAL (TM) Y PRECIOS CHACRA* (US$ / KG)  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01 - dic 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-59040" y="836640"/>
            <a:ext cx="9176040" cy="6023160"/>
            <a:chOff x="-59040" y="836640"/>
            <a:chExt cx="9176040" cy="6023160"/>
          </a:xfrm>
        </p:grpSpPr>
        <p:sp>
          <p:nvSpPr>
            <p:cNvPr id="409" name=""/>
            <p:cNvSpPr/>
            <p:nvPr/>
          </p:nvSpPr>
          <p:spPr>
            <a:xfrm>
              <a:off x="-59040" y="6400800"/>
              <a:ext cx="378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* Precio de principal variedad: Algodón Tangui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Fuente: MINA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410" name=""/>
            <p:cNvGraphicFramePr/>
            <p:nvPr/>
          </p:nvGraphicFramePr>
          <p:xfrm>
            <a:off x="6480" y="1233360"/>
            <a:ext cx="9110520" cy="4902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0" y="1233360"/>
                      <a:ext cx="9110520" cy="490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12" name=""/>
            <p:cNvGrpSpPr/>
            <p:nvPr/>
          </p:nvGrpSpPr>
          <p:grpSpPr>
            <a:xfrm>
              <a:off x="7315200" y="836640"/>
              <a:ext cx="1757880" cy="1066680"/>
              <a:chOff x="7315200" y="836640"/>
              <a:chExt cx="1757880" cy="1066680"/>
            </a:xfrm>
          </p:grpSpPr>
          <p:sp>
            <p:nvSpPr>
              <p:cNvPr id="413" name=""/>
              <p:cNvSpPr/>
              <p:nvPr/>
            </p:nvSpPr>
            <p:spPr>
              <a:xfrm>
                <a:off x="7315200" y="836640"/>
                <a:ext cx="1752480" cy="1066680"/>
              </a:xfrm>
              <a:prstGeom prst="flowChartAlternateProcess">
                <a:avLst/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923240" y="912960"/>
                <a:ext cx="406080" cy="2462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 </a:t>
                </a:r>
                <a:r>
                  <a:rPr b="1" lang="es-MX" sz="10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TM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429320" y="1141560"/>
                <a:ext cx="1104480" cy="6955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Año - 02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Año - 03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Variación %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326800" y="1081080"/>
                <a:ext cx="746280" cy="7506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127,368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123,367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&lt; 3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"/>
          <p:cNvGrpSpPr/>
          <p:nvPr/>
        </p:nvGrpSpPr>
        <p:grpSpPr>
          <a:xfrm>
            <a:off x="168120" y="919080"/>
            <a:ext cx="9018720" cy="5797080"/>
            <a:chOff x="168120" y="919080"/>
            <a:chExt cx="9018720" cy="5797080"/>
          </a:xfrm>
        </p:grpSpPr>
        <p:graphicFrame>
          <p:nvGraphicFramePr>
            <p:cNvPr id="420" name=""/>
            <p:cNvGraphicFramePr/>
            <p:nvPr/>
          </p:nvGraphicFramePr>
          <p:xfrm>
            <a:off x="168120" y="919080"/>
            <a:ext cx="9018720" cy="5264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2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8120" y="919080"/>
                      <a:ext cx="9018720" cy="526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2" name=""/>
            <p:cNvSpPr/>
            <p:nvPr/>
          </p:nvSpPr>
          <p:spPr>
            <a:xfrm>
              <a:off x="457200" y="6165720"/>
              <a:ext cx="23018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*Estimado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MINA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25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LGODON: PRODUCCION NACIONAL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(TM) - 2003 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050560" y="-907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ESPARRAGO FRESC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999 -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95360" y="643428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77840" y="884160"/>
            <a:ext cx="8907480" cy="5876280"/>
            <a:chOff x="177840" y="884160"/>
            <a:chExt cx="8907480" cy="5876280"/>
          </a:xfrm>
        </p:grpSpPr>
        <p:graphicFrame>
          <p:nvGraphicFramePr>
            <p:cNvPr id="429" name=""/>
            <p:cNvGraphicFramePr/>
            <p:nvPr/>
          </p:nvGraphicFramePr>
          <p:xfrm>
            <a:off x="177840" y="884160"/>
            <a:ext cx="8907480" cy="5475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7840" y="884160"/>
                      <a:ext cx="8907480" cy="547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1" name=""/>
            <p:cNvSpPr/>
            <p:nvPr/>
          </p:nvSpPr>
          <p:spPr>
            <a:xfrm>
              <a:off x="496440" y="645156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D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36800" y="6453360"/>
              <a:ext cx="24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(*) Cifras preliminares 200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33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2050920" y="115920"/>
            <a:ext cx="680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SA: MERCADO DEL ESPARRAGO FRESC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E 00 – DIC 02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47520" y="1035000"/>
            <a:ext cx="9167760" cy="5550120"/>
            <a:chOff x="47520" y="1035000"/>
            <a:chExt cx="9167760" cy="5550120"/>
          </a:xfrm>
        </p:grpSpPr>
        <p:graphicFrame>
          <p:nvGraphicFramePr>
            <p:cNvPr id="437" name=""/>
            <p:cNvGraphicFramePr/>
            <p:nvPr/>
          </p:nvGraphicFramePr>
          <p:xfrm>
            <a:off x="47520" y="1035000"/>
            <a:ext cx="9167760" cy="5294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7520" y="1035000"/>
                      <a:ext cx="9167760" cy="52945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39" name=""/>
            <p:cNvSpPr/>
            <p:nvPr/>
          </p:nvSpPr>
          <p:spPr>
            <a:xfrm>
              <a:off x="179280" y="6308640"/>
              <a:ext cx="296244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Fuente : AMS / USDA 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65520" y="2297160"/>
              <a:ext cx="490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2000                          2001             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4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MANG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(KG) CAMPAÑAS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1999/2000 -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3/ 2004*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95400" y="1057320"/>
          <a:ext cx="9119880" cy="534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400" y="1057320"/>
                    <a:ext cx="9119880" cy="53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"/>
          <p:cNvSpPr/>
          <p:nvPr/>
        </p:nvSpPr>
        <p:spPr>
          <a:xfrm>
            <a:off x="28800" y="6308640"/>
            <a:ext cx="239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ffff"/>
                </a:solidFill>
                <a:latin typeface="Arial"/>
                <a:ea typeface="Arial"/>
              </a:rPr>
              <a:t>(*) Hasta 19 de enero 200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Fuente: AD</a:t>
            </a:r>
            <a:r>
              <a:rPr b="1" i="1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UAN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181080" y="645948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in" orient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612720" y="1159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USA: MERCADO DEL MANGO 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ENE 00 – DIC 02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0" y="1035000"/>
            <a:ext cx="9215280" cy="5684040"/>
            <a:chOff x="0" y="1035000"/>
            <a:chExt cx="9215280" cy="5684040"/>
          </a:xfrm>
        </p:grpSpPr>
        <p:graphicFrame>
          <p:nvGraphicFramePr>
            <p:cNvPr id="454" name=""/>
            <p:cNvGraphicFramePr/>
            <p:nvPr/>
          </p:nvGraphicFramePr>
          <p:xfrm>
            <a:off x="47520" y="1035000"/>
            <a:ext cx="9167760" cy="5294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520" y="1035000"/>
                      <a:ext cx="9167760" cy="52945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56" name=""/>
            <p:cNvSpPr/>
            <p:nvPr/>
          </p:nvSpPr>
          <p:spPr>
            <a:xfrm>
              <a:off x="0" y="6381720"/>
              <a:ext cx="274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Fuente : AMS / USDA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37120" y="2270160"/>
              <a:ext cx="46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2000                        2001          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split dir="out" orient="horz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050920" y="-243360"/>
            <a:ext cx="69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UVAS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br>
              <a:rPr sz="1800"/>
            </a:b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98/99, 99/00, 00/01, 01/02, 02/03 Y 03/0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800" y="914400"/>
            <a:ext cx="9059760" cy="5917320"/>
            <a:chOff x="1800" y="914400"/>
            <a:chExt cx="9059760" cy="5917320"/>
          </a:xfrm>
        </p:grpSpPr>
        <p:graphicFrame>
          <p:nvGraphicFramePr>
            <p:cNvPr id="461" name=""/>
            <p:cNvGraphicFramePr/>
            <p:nvPr/>
          </p:nvGraphicFramePr>
          <p:xfrm>
            <a:off x="11160" y="914400"/>
            <a:ext cx="9050400" cy="539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160" y="914400"/>
                      <a:ext cx="9050400" cy="539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3" name=""/>
            <p:cNvSpPr/>
            <p:nvPr/>
          </p:nvSpPr>
          <p:spPr>
            <a:xfrm>
              <a:off x="1800" y="6524640"/>
              <a:ext cx="170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50400" y="6502320"/>
              <a:ext cx="218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(*)Hasta Diciembre del 2003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65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411280" y="115920"/>
            <a:ext cx="6481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TADOS UNIDOS: ABASTECIMIENTO DE UVA FRESCA  1999 - 2002 (TM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0" y="1035000"/>
            <a:ext cx="9215280" cy="5684040"/>
            <a:chOff x="0" y="1035000"/>
            <a:chExt cx="9215280" cy="5684040"/>
          </a:xfrm>
        </p:grpSpPr>
        <p:grpSp>
          <p:nvGrpSpPr>
            <p:cNvPr id="471" name=""/>
            <p:cNvGrpSpPr/>
            <p:nvPr/>
          </p:nvGrpSpPr>
          <p:grpSpPr>
            <a:xfrm>
              <a:off x="0" y="1035000"/>
              <a:ext cx="9215280" cy="5684040"/>
              <a:chOff x="0" y="1035000"/>
              <a:chExt cx="9215280" cy="5684040"/>
            </a:xfrm>
          </p:grpSpPr>
          <p:graphicFrame>
            <p:nvGraphicFramePr>
              <p:cNvPr id="472" name=""/>
              <p:cNvGraphicFramePr/>
              <p:nvPr/>
            </p:nvGraphicFramePr>
            <p:xfrm>
              <a:off x="47520" y="1035000"/>
              <a:ext cx="9167760" cy="5418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73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7520" y="1035000"/>
                        <a:ext cx="9167760" cy="5418360"/>
                      </a:xfrm>
                      <a:prstGeom prst="rect">
                        <a:avLst/>
                      </a:prstGeom>
                      <a:ln w="0">
                        <a:noFill/>
                      </a:ln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</p:spPr>
                  </p:pic>
                </p:oleObj>
              </a:graphicData>
            </a:graphic>
          </p:graphicFrame>
          <p:sp>
            <p:nvSpPr>
              <p:cNvPr id="474" name=""/>
              <p:cNvSpPr/>
              <p:nvPr/>
            </p:nvSpPr>
            <p:spPr>
              <a:xfrm>
                <a:off x="0" y="6381720"/>
                <a:ext cx="334800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Verdana"/>
                  </a:rPr>
                  <a:t>Fuente : Gobierno de Estados Unidos</a:t>
                </a:r>
                <a:r>
                  <a:rPr b="1" lang="es-ES_tradnl" sz="16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2790720" y="2060640"/>
              <a:ext cx="48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1999              2000                2001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split dir="out" orient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79280" y="-243360"/>
            <a:ext cx="7164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LTA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(KG NETOS)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1999,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2000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2 y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-6120" y="836640"/>
            <a:ext cx="8980200" cy="6012360"/>
            <a:chOff x="-6120" y="836640"/>
            <a:chExt cx="8980200" cy="6012360"/>
          </a:xfrm>
        </p:grpSpPr>
        <p:graphicFrame>
          <p:nvGraphicFramePr>
            <p:cNvPr id="478" name=""/>
            <p:cNvGraphicFramePr/>
            <p:nvPr/>
          </p:nvGraphicFramePr>
          <p:xfrm>
            <a:off x="0" y="836640"/>
            <a:ext cx="8974080" cy="5437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8974080" cy="543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0" name=""/>
            <p:cNvSpPr/>
            <p:nvPr/>
          </p:nvSpPr>
          <p:spPr>
            <a:xfrm>
              <a:off x="325080" y="623736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-6120" y="6541920"/>
              <a:ext cx="24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(*) Datos preliminares 200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82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95280" y="-76680"/>
            <a:ext cx="6491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PAPA: PRECIOS Y VOLUMENES SUMINISTRADOS AL MERCADO MAYORISTA DE LIMA 2001, 2002 Y 2003</a:t>
            </a:r>
            <a:r>
              <a:rPr b="0" lang="es-ES_tradnl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-10800" y="981000"/>
            <a:ext cx="9288000" cy="5704920"/>
            <a:chOff x="-10800" y="981000"/>
            <a:chExt cx="9288000" cy="5704920"/>
          </a:xfrm>
        </p:grpSpPr>
        <p:sp>
          <p:nvSpPr>
            <p:cNvPr id="333" name=""/>
            <p:cNvSpPr/>
            <p:nvPr/>
          </p:nvSpPr>
          <p:spPr>
            <a:xfrm>
              <a:off x="-10800" y="6165720"/>
              <a:ext cx="26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NOTA:  Precio de Papa Blanc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EMMS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334" name=""/>
            <p:cNvGraphicFramePr/>
            <p:nvPr/>
          </p:nvGraphicFramePr>
          <p:xfrm>
            <a:off x="0" y="998280"/>
            <a:ext cx="9277200" cy="5238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3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98280"/>
                      <a:ext cx="9277200" cy="523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6" name=""/>
            <p:cNvSpPr/>
            <p:nvPr/>
          </p:nvSpPr>
          <p:spPr>
            <a:xfrm>
              <a:off x="7362720" y="98100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1120" y="105696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15200" y="1285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74680" y="1225440"/>
              <a:ext cx="7462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480,956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462,86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&lt; 4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050560" y="-171720"/>
            <a:ext cx="7201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ITRICOS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(KG NETOS)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 1999, 2000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2 y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3240" y="1071720"/>
            <a:ext cx="8947080" cy="5455080"/>
            <a:chOff x="3240" y="1071720"/>
            <a:chExt cx="8947080" cy="5455080"/>
          </a:xfrm>
        </p:grpSpPr>
        <p:graphicFrame>
          <p:nvGraphicFramePr>
            <p:cNvPr id="486" name=""/>
            <p:cNvGraphicFramePr/>
            <p:nvPr/>
          </p:nvGraphicFramePr>
          <p:xfrm>
            <a:off x="3240" y="1071720"/>
            <a:ext cx="8947080" cy="5155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8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40" y="1071720"/>
                      <a:ext cx="8947080" cy="51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8" name=""/>
            <p:cNvSpPr/>
            <p:nvPr/>
          </p:nvSpPr>
          <p:spPr>
            <a:xfrm>
              <a:off x="74160" y="621972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89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340000" y="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STINO MENSUAL DE LAS EXPORTACIONES DE CITR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NERO 1999 - 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DICIEMBRE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200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3 (TM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57240" y="981000"/>
            <a:ext cx="9086760" cy="6092280"/>
            <a:chOff x="57240" y="981000"/>
            <a:chExt cx="9086760" cy="6092280"/>
          </a:xfrm>
        </p:grpSpPr>
        <p:graphicFrame>
          <p:nvGraphicFramePr>
            <p:cNvPr id="493" name=""/>
            <p:cNvGraphicFramePr/>
            <p:nvPr/>
          </p:nvGraphicFramePr>
          <p:xfrm>
            <a:off x="57240" y="981000"/>
            <a:ext cx="90867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240" y="981000"/>
                      <a:ext cx="90867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5" name=""/>
            <p:cNvSpPr/>
            <p:nvPr/>
          </p:nvSpPr>
          <p:spPr>
            <a:xfrm>
              <a:off x="124560" y="6553080"/>
              <a:ext cx="1665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Fuente: AD</a:t>
              </a:r>
              <a:r>
                <a:rPr b="1" i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258920" y="2060640"/>
              <a:ext cx="73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Verdana"/>
                </a:rPr>
                <a:t>1999            2000            2001         2002          2003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9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TADOS UNIDOS: ABASTECIMIENTO DE CITRICOS FRESCOS 2000 - 2002 (TM)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57960" y="984240"/>
            <a:ext cx="9119520" cy="5864400"/>
            <a:chOff x="57960" y="984240"/>
            <a:chExt cx="9119520" cy="5864400"/>
          </a:xfrm>
        </p:grpSpPr>
        <p:graphicFrame>
          <p:nvGraphicFramePr>
            <p:cNvPr id="501" name=""/>
            <p:cNvGraphicFramePr/>
            <p:nvPr/>
          </p:nvGraphicFramePr>
          <p:xfrm>
            <a:off x="81000" y="984240"/>
            <a:ext cx="909648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0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1000" y="984240"/>
                      <a:ext cx="909648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3" name=""/>
            <p:cNvSpPr/>
            <p:nvPr/>
          </p:nvSpPr>
          <p:spPr>
            <a:xfrm>
              <a:off x="57960" y="6572160"/>
              <a:ext cx="257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Verdana"/>
                </a:rPr>
                <a:t>Fuente: Gobierno Estados Unido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973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81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229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123640" y="-17172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Índice del Tipo de Cambio e Índice de Precios al Consumidor de Perú y Brasil (Año 1994=100)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3780000" y="6427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"/>
          <p:cNvSpPr/>
          <p:nvPr/>
        </p:nvSpPr>
        <p:spPr>
          <a:xfrm>
            <a:off x="158760" y="6251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0" y="765000"/>
            <a:ext cx="9212400" cy="6125040"/>
            <a:chOff x="0" y="765000"/>
            <a:chExt cx="9212400" cy="6125040"/>
          </a:xfrm>
        </p:grpSpPr>
        <p:sp>
          <p:nvSpPr>
            <p:cNvPr id="514" name=""/>
            <p:cNvSpPr/>
            <p:nvPr/>
          </p:nvSpPr>
          <p:spPr>
            <a:xfrm>
              <a:off x="0" y="6335640"/>
              <a:ext cx="86756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Fuente: International Financial Statistics-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national Monetary Found.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515" name=""/>
            <p:cNvGraphicFramePr/>
            <p:nvPr/>
          </p:nvGraphicFramePr>
          <p:xfrm>
            <a:off x="54000" y="765000"/>
            <a:ext cx="9158400" cy="538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000" y="765000"/>
                      <a:ext cx="9158400" cy="538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55640" y="17427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Verdana"/>
              </a:rPr>
              <a:t>MUCHAS GRACI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2263680" y="3429000"/>
            <a:ext cx="460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Fernando Cillóni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www.informaccion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3708360" y="836640"/>
            <a:ext cx="1971720" cy="523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55440" y="1068480"/>
            <a:ext cx="9102960" cy="5730480"/>
            <a:chOff x="55440" y="1068480"/>
            <a:chExt cx="9102960" cy="5730480"/>
          </a:xfrm>
        </p:grpSpPr>
        <p:graphicFrame>
          <p:nvGraphicFramePr>
            <p:cNvPr id="343" name=""/>
            <p:cNvGraphicFramePr/>
            <p:nvPr/>
          </p:nvGraphicFramePr>
          <p:xfrm>
            <a:off x="55440" y="1068480"/>
            <a:ext cx="9102960" cy="5276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5440" y="1068480"/>
                      <a:ext cx="9102960" cy="527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5" name=""/>
            <p:cNvSpPr/>
            <p:nvPr/>
          </p:nvSpPr>
          <p:spPr>
            <a:xfrm>
              <a:off x="457200" y="6248520"/>
              <a:ext cx="23018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EMMS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PAPA: ABASTECIMIENTO EN EL MERCADO MAYORISTA DE LIMA (TM)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4947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MANDARINA: Precios y volúmenes suministrados al Mercado Mayorista de Lima 2001, 2002 y 200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7160" y="1181160"/>
            <a:ext cx="9096480" cy="5678640"/>
            <a:chOff x="47160" y="1181160"/>
            <a:chExt cx="9096480" cy="5678640"/>
          </a:xfrm>
        </p:grpSpPr>
        <p:graphicFrame>
          <p:nvGraphicFramePr>
            <p:cNvPr id="351" name=""/>
            <p:cNvGraphicFramePr/>
            <p:nvPr/>
          </p:nvGraphicFramePr>
          <p:xfrm>
            <a:off x="66600" y="1181160"/>
            <a:ext cx="9077040" cy="5105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6600" y="1181160"/>
                      <a:ext cx="9077040" cy="510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3" name=""/>
            <p:cNvSpPr/>
            <p:nvPr/>
          </p:nvSpPr>
          <p:spPr>
            <a:xfrm>
              <a:off x="47160" y="6400800"/>
              <a:ext cx="324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NOTA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Verdana"/>
                </a:rPr>
                <a:t>: 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Verdana"/>
                </a:rPr>
                <a:t>Precio de Mandarina Satsuma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Verdana"/>
                </a:rPr>
                <a:t>Fuente: Mercado Mayorista de Frutas  Nº 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205400" y="1219320"/>
              <a:ext cx="17524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13800" y="129564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34200" y="1524240"/>
              <a:ext cx="11044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278200" y="1494000"/>
              <a:ext cx="575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43,958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49,99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1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231840" y="907920"/>
            <a:ext cx="8877240" cy="6102720"/>
            <a:chOff x="231840" y="907920"/>
            <a:chExt cx="8877240" cy="6102720"/>
          </a:xfrm>
        </p:grpSpPr>
        <p:graphicFrame>
          <p:nvGraphicFramePr>
            <p:cNvPr id="361" name=""/>
            <p:cNvGraphicFramePr/>
            <p:nvPr/>
          </p:nvGraphicFramePr>
          <p:xfrm>
            <a:off x="231840" y="907920"/>
            <a:ext cx="8877240" cy="5183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31840" y="907920"/>
                      <a:ext cx="8877240" cy="518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3" name=""/>
            <p:cNvSpPr/>
            <p:nvPr/>
          </p:nvSpPr>
          <p:spPr>
            <a:xfrm>
              <a:off x="239760" y="6124680"/>
              <a:ext cx="35053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Fuente: Mercado Mayorista de Frutas N° 2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Elaboración : Inform@cción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3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123640" y="-171720"/>
            <a:ext cx="64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MANDARINA: ABASTECIMIENTO EN EL MERCADO MAYORISTA DE LIMA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198360" y="981000"/>
          <a:ext cx="8945640" cy="507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360" y="981000"/>
                    <a:ext cx="8945640" cy="50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0" y="6064200"/>
            <a:ext cx="4527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IN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*Estima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6188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RROZ: PRODUCCION NACIONAL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(TM)  -  2003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339640" y="-76680"/>
            <a:ext cx="6194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ARROZ: ABASTECIMIENTO EN EL MERCADO PRODUCTORES DE SANTA ANITA (TM) Y PRECIOS MAYORISTA (US$ / KG)  ene 01 - dic 03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-11160" y="914400"/>
            <a:ext cx="9231480" cy="5942880"/>
            <a:chOff x="-11160" y="914400"/>
            <a:chExt cx="9231480" cy="5942880"/>
          </a:xfrm>
        </p:grpSpPr>
        <p:graphicFrame>
          <p:nvGraphicFramePr>
            <p:cNvPr id="375" name=""/>
            <p:cNvGraphicFramePr/>
            <p:nvPr/>
          </p:nvGraphicFramePr>
          <p:xfrm>
            <a:off x="0" y="990720"/>
            <a:ext cx="9220320" cy="5505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7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90720"/>
                      <a:ext cx="9220320" cy="550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7" name=""/>
            <p:cNvSpPr/>
            <p:nvPr/>
          </p:nvSpPr>
          <p:spPr>
            <a:xfrm>
              <a:off x="7140600" y="914400"/>
              <a:ext cx="19270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9120" y="990720"/>
              <a:ext cx="406080" cy="246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67600" y="1219320"/>
              <a:ext cx="1292040" cy="596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222400" y="1209600"/>
              <a:ext cx="680760" cy="596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363,597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394,618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9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-11160" y="6519960"/>
              <a:ext cx="443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Fuente: Mercado Productores de Santa Anit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8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66600" y="1260360"/>
          <a:ext cx="8945640" cy="507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600" y="1260360"/>
                    <a:ext cx="8945640" cy="50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08000" y="6264360"/>
            <a:ext cx="4419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ercado Productores de Sta Ani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195280" y="-360"/>
            <a:ext cx="69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RROZ: ABASTECIMIENTO EN EL MERCADO PRODUCTORES DE SANTA ANITA (TM) -  2003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123640" y="-27360"/>
            <a:ext cx="6867720" cy="11430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ZUCAR: ABASTECIMIENTO EN EL MERCADO PRODUCTORES DE SANTA ANITA (TM) Y PRECIOS MAYORISTA (US$ / KG) ene 01 - dic 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-11160" y="1052640"/>
            <a:ext cx="9123480" cy="5804640"/>
            <a:chOff x="-11160" y="1052640"/>
            <a:chExt cx="9123480" cy="5804640"/>
          </a:xfrm>
        </p:grpSpPr>
        <p:sp>
          <p:nvSpPr>
            <p:cNvPr id="392" name=""/>
            <p:cNvSpPr/>
            <p:nvPr/>
          </p:nvSpPr>
          <p:spPr>
            <a:xfrm>
              <a:off x="-11160" y="6519960"/>
              <a:ext cx="443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Fuente: Mercado Productores de Santa Anit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393" name=""/>
            <p:cNvGraphicFramePr/>
            <p:nvPr/>
          </p:nvGraphicFramePr>
          <p:xfrm>
            <a:off x="6480" y="1123920"/>
            <a:ext cx="9074160" cy="5276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9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0" y="1123920"/>
                      <a:ext cx="9074160" cy="527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5" name=""/>
            <p:cNvSpPr/>
            <p:nvPr/>
          </p:nvSpPr>
          <p:spPr>
            <a:xfrm>
              <a:off x="7451640" y="1052640"/>
              <a:ext cx="16606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047080" y="112860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67480" y="1357200"/>
              <a:ext cx="11052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424360" y="1327320"/>
              <a:ext cx="64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251,25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260,99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17:26:36Z</dcterms:created>
  <dc:creator>Luigi Riva Melofiro</dc:creator>
  <dc:description/>
  <dc:language>en-US</dc:language>
  <cp:lastModifiedBy>Asociacion Civil</cp:lastModifiedBy>
  <dcterms:modified xsi:type="dcterms:W3CDTF">2004-01-29T00:24:58Z</dcterms:modified>
  <cp:revision>50</cp:revision>
  <dc:subject/>
  <dc:title>COMERCIALIZACION DE ARROZ EN EL MERCADO PRODUCTORES DE STA. ANITA POR   AÑO 1999, 2000, 2001 y 2002 (TM)</dc:title>
</cp:coreProperties>
</file>